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35.gif" ContentType="image/gif"/>
  <Override PartName="/ppt/media/image23.gif" ContentType="image/gif"/>
  <Override PartName="/ppt/media/image22.jpeg" ContentType="image/jpeg"/>
  <Override PartName="/ppt/media/image9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24.png" ContentType="image/png"/>
  <Override PartName="/ppt/media/image11.jpeg" ContentType="image/jpeg"/>
  <Override PartName="/ppt/media/image31.gif" ContentType="image/gif"/>
  <Override PartName="/ppt/media/image1.png" ContentType="image/png"/>
  <Override PartName="/ppt/media/image10.gif" ContentType="image/gif"/>
  <Override PartName="/ppt/media/image38.gif" ContentType="image/gif"/>
  <Override PartName="/ppt/media/image43.png" ContentType="image/png"/>
  <Override PartName="/ppt/media/image30.jpeg" ContentType="image/jpeg"/>
  <Override PartName="/ppt/media/image44.gif" ContentType="image/gif"/>
  <Override PartName="/ppt/media/image12.png" ContentType="image/png"/>
  <Override PartName="/ppt/media/image40.gif" ContentType="image/gif"/>
  <Override PartName="/ppt/media/image33.png" ContentType="image/png"/>
  <Override PartName="/ppt/media/image8.png" ContentType="image/png"/>
  <Override PartName="/ppt/media/image39.jpeg" ContentType="image/jpeg"/>
  <Override PartName="/ppt/media/image45.png" ContentType="image/png"/>
  <Override PartName="/ppt/media/image42.gif" ContentType="image/gif"/>
  <Override PartName="/ppt/media/image27.jpeg" ContentType="image/jpeg"/>
  <Override PartName="/ppt/media/image41.gif" ContentType="image/gif"/>
  <Override PartName="/ppt/media/image34.png" ContentType="image/png"/>
  <Override PartName="/ppt/media/image46.png" ContentType="image/png"/>
  <Override PartName="/ppt/media/image37.gif" ContentType="image/gif"/>
  <Override PartName="/ppt/media/image7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.gif" ContentType="image/gif"/>
  <Override PartName="/ppt/media/image29.png" ContentType="image/png"/>
  <Override PartName="/ppt/media/image3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609-37DC-4D20-98DD-F782E8D7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C8A-3C6F-4747-9EB6-769ED211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DB7-E4EA-467F-9114-67E3F2B1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5F55-9A3E-4D04-8357-97ED07D7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AF13-64D3-4D25-8BDC-4D7368D0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E253-83D9-4D4D-B774-67F53008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6486-9238-44C8-9D4C-4706400E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7DD2-91EC-49AE-916D-2940ABCF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582B-8D09-4E5C-842D-074E7BBB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79DC-72FF-411A-A8D5-7970C256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3B18-785C-49E2-A79F-F70CD7D5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F426-2771-4E1E-B319-E2848AF9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9A5F-95D9-49AD-8B81-D3FBB5AE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43AC-1D9D-4426-9BF8-B63A2783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AC45-E646-4D7E-997C-BDFA10ED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1A49-B59C-4BBC-88CF-DF703327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830C-B8FB-473A-AD03-C7BD9C73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DD10-0D98-4FE3-948B-BD1F5F5D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3B92-FA19-4745-8C1D-A22B29EB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058-C53E-4265-B747-C8B8A795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0D92-7103-45E0-BC90-B260342D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C75C-EDD0-4209-ACE5-0671BEE8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90FB-0959-4355-87DD-DB27A148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BEEC-3C82-40EE-9694-E66EDA1F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9047-882B-4069-B0E0-D27E189A67B2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C005-917D-46A6-96F4-06A4ECC8F560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hyperlink" Target="http://search.aol.ca/redir?urn=http://z.about.com/d/geology/1/0/U/A/1/gold500.jpg&amp;rank=%20&amp;source=googleImage&amp;searchType=IS&amp;partner=Google&amp;query=gold%20nugget" TargetMode="External"/><Relationship Id="rId4" Type="http://schemas.openxmlformats.org/officeDocument/2006/relationships/image" Target="../media/image30.jpeg"/><Relationship Id="rId5" Type="http://schemas.openxmlformats.org/officeDocument/2006/relationships/image" Target="../media/image31.gif"/><Relationship Id="rId6" Type="http://schemas.openxmlformats.org/officeDocument/2006/relationships/image" Target="../media/image32.png"/><Relationship Id="rId7" Type="http://schemas.openxmlformats.org/officeDocument/2006/relationships/image" Target="../media/image31.gif"/><Relationship Id="rId8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3.png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4.png"/><Relationship Id="rId7" Type="http://schemas.openxmlformats.org/officeDocument/2006/relationships/image" Target="../media/image31.gif"/><Relationship Id="rId8" Type="http://schemas.openxmlformats.org/officeDocument/2006/relationships/image" Target="../media/image31.gif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earch.aol.ca/redir?urn=http://z.about.com/d/geology/1/0/U/A/1/gold500.jpg&amp;rank=%20&amp;source=googleImage&amp;searchType=IS&amp;partner=Google&amp;query=gold%20nugget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5.gif"/><Relationship Id="rId5" Type="http://schemas.openxmlformats.org/officeDocument/2006/relationships/image" Target="../media/image7.gif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Image:Convection.gif" TargetMode="External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gif"/><Relationship Id="rId3" Type="http://schemas.openxmlformats.org/officeDocument/2006/relationships/image" Target="../media/image7.gif"/><Relationship Id="rId4" Type="http://schemas.openxmlformats.org/officeDocument/2006/relationships/image" Target="../media/image36.gif"/><Relationship Id="rId5" Type="http://schemas.openxmlformats.org/officeDocument/2006/relationships/hyperlink" Target="http://en.wikipedia.org/wiki/Image:Convection.gif" TargetMode="External"/><Relationship Id="rId6" Type="http://schemas.openxmlformats.org/officeDocument/2006/relationships/image" Target="../media/image37.gif"/><Relationship Id="rId7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Metrics &amp; Density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105520" y="3124080"/>
            <a:ext cx="4038480" cy="2979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676520"/>
            <a:ext cx="8458200" cy="5331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43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05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38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95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29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05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1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62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15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1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867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24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00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77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29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10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86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162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91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43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20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96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772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848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4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01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077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153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29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305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3809880" y="227880"/>
            <a:ext cx="685800" cy="8305920"/>
          </a:xfrm>
          <a:custGeom>
            <a:avLst/>
            <a:gdLst>
              <a:gd name="textAreaLeft" fmla="*/ 438120 w 685800"/>
              <a:gd name="textAreaRight" fmla="*/ 686160 w 685800"/>
              <a:gd name="textAreaTop" fmla="*/ 216360 h 8305920"/>
              <a:gd name="textAreaBottom" fmla="*/ 8089560 h 830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4876920"/>
            <a:ext cx="4876920" cy="10666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100 centimeters = 1 me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Each unit is 10 times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Smaller or 10 times Larger!!!!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How many millimeters make up 1meter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676520"/>
            <a:ext cx="8458200" cy="5331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146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911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057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438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2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3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38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66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43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19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523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00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81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33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62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38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14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666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743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71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8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352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29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05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81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9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62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038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91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19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648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24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52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29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05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257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334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10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486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62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15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67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43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019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95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72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48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24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400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477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553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29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05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781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934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10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86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162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238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315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391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467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543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20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96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772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848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924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001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077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153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229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305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90720" y="4572000"/>
            <a:ext cx="7596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666880" y="411480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00 millimeters make up one (1) meter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1676520"/>
            <a:ext cx="8458200" cy="5331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380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765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146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526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1911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0292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8672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7057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5438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4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0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62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8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14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90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66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19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295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71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47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523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676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752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905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057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133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86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362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666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743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971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48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124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200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276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352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29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505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81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657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33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09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962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038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114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267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343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419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48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724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00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876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52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029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57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334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410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486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62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638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715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91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019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095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172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248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324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400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477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53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29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705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781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934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10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86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238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315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391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467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543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620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696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772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848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924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001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077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153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229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305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990720" y="4572000"/>
            <a:ext cx="7596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66880" y="411480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19320" y="4191120"/>
            <a:ext cx="5257800" cy="1447560"/>
          </a:xfrm>
          <a:prstGeom prst="leftArrowCallout">
            <a:avLst>
              <a:gd name="adj1" fmla="val 30262"/>
              <a:gd name="adj2" fmla="val 25000"/>
              <a:gd name="adj3" fmla="val 55273"/>
              <a:gd name="adj4" fmla="val 78660"/>
            </a:avLst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0 millimeters can fit into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 centime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It takes 10 millimeters to make up 1 centimeter.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1676520"/>
            <a:ext cx="8458200" cy="5331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6765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146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3526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1911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0292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8672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057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5438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52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8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04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0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57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3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2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38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914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990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066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143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295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371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447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523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00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76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752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828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905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81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057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133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09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86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362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438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590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666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743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819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5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971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048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124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200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352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429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505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581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657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33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09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886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038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114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91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343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19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495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648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724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00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876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52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029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105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181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257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334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10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486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562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638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715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791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943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019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95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172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248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324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400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477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553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629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705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81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858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934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10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086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162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38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315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391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467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543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6201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6960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7724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8487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9246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0010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077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153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8229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305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5334120"/>
            <a:ext cx="74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illimeters are so small that they almost run together.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4343400"/>
            <a:ext cx="845820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5c1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3832560" y="921600"/>
            <a:ext cx="4765320" cy="4867200"/>
            <a:chOff x="3832560" y="921600"/>
            <a:chExt cx="4765320" cy="4867200"/>
          </a:xfrm>
        </p:grpSpPr>
        <p:sp>
          <p:nvSpPr>
            <p:cNvPr id="644" name=""/>
            <p:cNvSpPr/>
            <p:nvPr/>
          </p:nvSpPr>
          <p:spPr>
            <a:xfrm>
              <a:off x="3848040" y="921600"/>
              <a:ext cx="4749840" cy="701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325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3034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739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448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153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1862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567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276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981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690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832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875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918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961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03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46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89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132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74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217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260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03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5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88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31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74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17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60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02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45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88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731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73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816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59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02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945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988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030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3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16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159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202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244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287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330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373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415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458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501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44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87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629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72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15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58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01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8438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886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29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72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0148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057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100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43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186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29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71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314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357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400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442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485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528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571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614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656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699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42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785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828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70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913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956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99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041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84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27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70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13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55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298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341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84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27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70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512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555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598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641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683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726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769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812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855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898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940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983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026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069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1118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154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197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240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283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325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368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11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454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497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48040" y="5018040"/>
              <a:ext cx="4749840" cy="770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914400" y="762120"/>
            <a:ext cx="2933640" cy="1371600"/>
          </a:xfrm>
          <a:prstGeom prst="rightArrowCallout">
            <a:avLst>
              <a:gd name="adj1" fmla="val 27086"/>
              <a:gd name="adj2" fmla="val 25000"/>
              <a:gd name="adj3" fmla="val 29280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1 me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member 1 meter is much larger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914400" y="2133720"/>
            <a:ext cx="2933640" cy="1143000"/>
          </a:xfrm>
          <a:prstGeom prst="rightArrowCallout">
            <a:avLst>
              <a:gd name="adj1" fmla="val 27086"/>
              <a:gd name="adj2" fmla="val 23611"/>
              <a:gd name="adj3" fmla="val 35136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 =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dec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3276720"/>
            <a:ext cx="2933640" cy="1447560"/>
          </a:xfrm>
          <a:prstGeom prst="rightArrowCallout">
            <a:avLst>
              <a:gd name="adj1" fmla="val 19891"/>
              <a:gd name="adj2" fmla="val 20074"/>
              <a:gd name="adj3" fmla="val 27688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 =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cent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914400" y="4572000"/>
            <a:ext cx="2933640" cy="1447920"/>
          </a:xfrm>
          <a:prstGeom prst="rightArrowCallout">
            <a:avLst>
              <a:gd name="adj1" fmla="val 19891"/>
              <a:gd name="adj2" fmla="val 20074"/>
              <a:gd name="adj3" fmla="val 27681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 =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mill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ivide by powers of 10!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 Black"/>
              </a:rPr>
              <a:t>Basic Units of the </a:t>
            </a:r>
            <a:br>
              <a:rPr sz="3200"/>
            </a:br>
            <a:r>
              <a:rPr b="0" lang="en-US" sz="3200" spc="-1" strike="noStrike">
                <a:solidFill>
                  <a:srgbClr val="dfd293"/>
                </a:solidFill>
                <a:latin typeface="Arial Black"/>
              </a:rPr>
              <a:t>Metric System</a:t>
            </a:r>
            <a:endParaRPr b="0" lang="en-US" sz="32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mass or weigh something we use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measure distance or length, we use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asurement of how much space an object takes up and is measured by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Met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er is used to measure length and dist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ilometer is a 1000 meters and is similar in length to the mi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30481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the Meter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6553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er is used to measure ____ and dist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3048120" y="40006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7086600" y="2514600"/>
            <a:ext cx="2057400" cy="3581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238880" y="304812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f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3"/>
          <a:stretch/>
        </p:blipFill>
        <p:spPr>
          <a:xfrm>
            <a:off x="1066680" y="8380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Gram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gram is used to measure Ma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ss is a measure how much stuff (or matter) the object is made of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 find mass by weighing the ob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3352680" y="4267080"/>
            <a:ext cx="2895840" cy="241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the Gram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6476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am is used to measure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s a measure how much _____ (or matter) the object is made of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find mass by _____the ob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2"/>
          <a:stretch/>
        </p:blipFill>
        <p:spPr>
          <a:xfrm>
            <a:off x="3276720" y="4267080"/>
            <a:ext cx="2895480" cy="241308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6934320" y="3200400"/>
            <a:ext cx="1981080" cy="350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086600" y="373392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f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3"/>
          <a:stretch/>
        </p:blipFill>
        <p:spPr>
          <a:xfrm>
            <a:off x="990720" y="990720"/>
            <a:ext cx="7772400" cy="42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opic:  Metric System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know how the metric system is based on powers of 1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understand the units of length, volume, and ma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learn how to convert using the metric system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Lit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liter is used to measure Volu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lume is how much space an object uses up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2"/>
          <a:stretch/>
        </p:blipFill>
        <p:spPr>
          <a:xfrm>
            <a:off x="2362320" y="3886200"/>
            <a:ext cx="261432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a Liter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ter is used to measure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is how much _____ an object uses up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2362320" y="3886200"/>
            <a:ext cx="2614320" cy="297180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6477120" y="3048120"/>
            <a:ext cx="2133360" cy="3657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629400" y="365760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ighing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uff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1219320" y="12952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0" name=""/>
          <p:cNvGraphicFramePr/>
          <p:nvPr/>
        </p:nvGraphicFramePr>
        <p:xfrm>
          <a:off x="1143000" y="228600"/>
          <a:ext cx="3825720" cy="6496200"/>
        </p:xfrm>
        <a:graphic>
          <a:graphicData uri="http://schemas.openxmlformats.org/drawingml/2006/table">
            <a:tbl>
              <a:tblPr/>
              <a:tblGrid>
                <a:gridCol w="2054160"/>
                <a:gridCol w="177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Rockwell Extra Bold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Rockwell Extra Bold"/>
                          <a:ea typeface="Times New Roman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Kilo-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000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Hecto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00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Decka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0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Meter, Gram, Lite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Deci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/10 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or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0.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Centi-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/100 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or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0.0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Milli-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/1000 </a:t>
                      </a:r>
                      <a:r>
                        <a:rPr b="0" i="1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or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0.00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1" name=""/>
          <p:cNvSpPr/>
          <p:nvPr/>
        </p:nvSpPr>
        <p:spPr>
          <a:xfrm>
            <a:off x="685800" y="598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410080" y="990720"/>
            <a:ext cx="3276720" cy="3200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tic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is 10 tim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rger or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 times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" dur="10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 Black"/>
              </a:rPr>
              <a:t>Metric Step Ladder</a:t>
            </a:r>
            <a:endParaRPr b="0" lang="en-US" sz="2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ngth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Your house is 8 meters tall, how many millimeters tall is it?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>
            <a:off x="-304920" y="152388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038480" y="213372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238880" y="35812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,00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3"/>
          <a:stretch/>
        </p:blipFill>
        <p:spPr>
          <a:xfrm rot="1608600">
            <a:off x="5257440" y="3047760"/>
            <a:ext cx="1828800" cy="55548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304920" y="3657600"/>
            <a:ext cx="28191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 meter = 1000 mill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-228600" y="64008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419720" y="640080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809880" y="586728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0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952880" y="5867280"/>
            <a:ext cx="13716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495680" y="65530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572000" y="6553080"/>
            <a:ext cx="120816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5715000" y="65530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248520" y="6019920"/>
            <a:ext cx="266688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imeters(mm) tal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3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-228600" y="609588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ngth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Your bike is 2 meters in length, how many centimeters long is it?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26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248520" y="31240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0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3"/>
          <a:stretch/>
        </p:blipFill>
        <p:spPr>
          <a:xfrm rot="1649400">
            <a:off x="5079600" y="2925720"/>
            <a:ext cx="1143000" cy="520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304920" y="3657600"/>
            <a:ext cx="28954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 meter = 100 cent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419720" y="640080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581280" y="586728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876920" y="594360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4495680" y="65530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867280" y="6019920"/>
            <a:ext cx="350532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imeters(cm) lo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495680" y="6553080"/>
            <a:ext cx="919440" cy="216000"/>
          </a:xfrm>
          <a:custGeom>
            <a:avLst/>
            <a:gdLst/>
            <a:ahLst/>
            <a:rect l="l" t="t" r="r" b="b"/>
            <a:pathLst>
              <a:path w="579" h="136">
                <a:moveTo>
                  <a:pt x="0" y="62"/>
                </a:moveTo>
                <a:cubicBezTo>
                  <a:pt x="7" y="67"/>
                  <a:pt x="14" y="70"/>
                  <a:pt x="20" y="76"/>
                </a:cubicBezTo>
                <a:cubicBezTo>
                  <a:pt x="26" y="82"/>
                  <a:pt x="27" y="92"/>
                  <a:pt x="34" y="96"/>
                </a:cubicBezTo>
                <a:cubicBezTo>
                  <a:pt x="46" y="104"/>
                  <a:pt x="75" y="110"/>
                  <a:pt x="75" y="110"/>
                </a:cubicBezTo>
                <a:cubicBezTo>
                  <a:pt x="180" y="105"/>
                  <a:pt x="228" y="132"/>
                  <a:pt x="260" y="42"/>
                </a:cubicBezTo>
                <a:cubicBezTo>
                  <a:pt x="264" y="48"/>
                  <a:pt x="304" y="94"/>
                  <a:pt x="308" y="96"/>
                </a:cubicBezTo>
                <a:cubicBezTo>
                  <a:pt x="330" y="110"/>
                  <a:pt x="370" y="117"/>
                  <a:pt x="397" y="124"/>
                </a:cubicBezTo>
                <a:cubicBezTo>
                  <a:pt x="437" y="121"/>
                  <a:pt x="493" y="136"/>
                  <a:pt x="514" y="103"/>
                </a:cubicBezTo>
                <a:cubicBezTo>
                  <a:pt x="579" y="0"/>
                  <a:pt x="508" y="85"/>
                  <a:pt x="534" y="5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5334120" y="655308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ss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A paperclip weighs 7 grams, how many milligrams does it weigh?</a:t>
            </a:r>
            <a:endParaRPr b="0" lang="en-US" sz="2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315200" y="35812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,00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3"/>
          <a:stretch/>
        </p:blipFill>
        <p:spPr>
          <a:xfrm rot="1649400">
            <a:off x="5189040" y="2935080"/>
            <a:ext cx="1967040" cy="58896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-228600" y="6248520"/>
            <a:ext cx="96012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419720" y="617220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809880" y="563868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0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952880" y="5638680"/>
            <a:ext cx="13716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4495680" y="6324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572000" y="6324480"/>
            <a:ext cx="120816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5715000" y="6324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477120" y="5791320"/>
            <a:ext cx="213336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gram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3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4" dur="5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-152280" y="61722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Volum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For breakfast, you drank 350 milliliters of orange juice, how many centiliters did you drink?</a:t>
            </a:r>
            <a:endParaRPr b="0" lang="en-US" sz="2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172200" y="3124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35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315200" y="35812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35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800600" y="624852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809880" y="571500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095880" y="579132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5410080" y="640080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791320" y="640080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486400" y="6477120"/>
            <a:ext cx="380880" cy="152280"/>
          </a:xfrm>
          <a:custGeom>
            <a:avLst/>
            <a:gdLst/>
            <a:ahLst/>
            <a:rect l="l" t="t" r="r" b="b"/>
            <a:pathLst>
              <a:path w="335" h="112">
                <a:moveTo>
                  <a:pt x="335" y="24"/>
                </a:moveTo>
                <a:cubicBezTo>
                  <a:pt x="315" y="37"/>
                  <a:pt x="290" y="60"/>
                  <a:pt x="268" y="67"/>
                </a:cubicBezTo>
                <a:cubicBezTo>
                  <a:pt x="238" y="112"/>
                  <a:pt x="177" y="88"/>
                  <a:pt x="128" y="85"/>
                </a:cubicBezTo>
                <a:cubicBezTo>
                  <a:pt x="98" y="81"/>
                  <a:pt x="72" y="76"/>
                  <a:pt x="43" y="67"/>
                </a:cubicBezTo>
                <a:cubicBezTo>
                  <a:pt x="27" y="50"/>
                  <a:pt x="28" y="38"/>
                  <a:pt x="7" y="24"/>
                </a:cubicBezTo>
                <a:cubicBezTo>
                  <a:pt x="0" y="4"/>
                  <a:pt x="1" y="12"/>
                  <a:pt x="1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172200" y="5867280"/>
            <a:ext cx="28195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iliters(cL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3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ngth:</a:t>
            </a:r>
            <a:br>
              <a:rPr sz="24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You drove 6500 meters on your way to school this morning, how many kilometers did you drive?</a:t>
            </a:r>
            <a:r>
              <a:rPr b="0" lang="en-US" sz="2400" spc="-1" strike="noStrike">
                <a:solidFill>
                  <a:srgbClr val="dfd293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2"/>
          <a:stretch/>
        </p:blipFill>
        <p:spPr>
          <a:xfrm>
            <a:off x="-304920" y="1219320"/>
            <a:ext cx="9829800" cy="502920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650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8080" y="8380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6.5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3"/>
          <a:stretch/>
        </p:blipFill>
        <p:spPr>
          <a:xfrm rot="12321000">
            <a:off x="1828800" y="1447200"/>
            <a:ext cx="1773360" cy="55404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304920" y="3657600"/>
            <a:ext cx="28191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 kilometer = 1000 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-304920" y="61722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724280" y="601992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114800" y="5486400"/>
            <a:ext cx="2666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5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391520" y="548640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4800600" y="617220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876920" y="6172200"/>
            <a:ext cx="120780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6019920" y="617220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257800" y="56386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29400" y="5715000"/>
            <a:ext cx="23623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lometers(km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ss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Your backpack weighs 7 kilograms, how many grams does it weigh?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888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00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8380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3"/>
          <a:stretch/>
        </p:blipFill>
        <p:spPr>
          <a:xfrm rot="1504200">
            <a:off x="2382480" y="1595520"/>
            <a:ext cx="1219320" cy="55404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/>
          <p:nvPr/>
        </p:nvSpPr>
        <p:spPr>
          <a:xfrm>
            <a:off x="-228600" y="61722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495680" y="624852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886200" y="5715000"/>
            <a:ext cx="2666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0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029200" y="571500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4572000" y="640080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648320" y="6400800"/>
            <a:ext cx="120780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5791320" y="640080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477120" y="5791320"/>
            <a:ext cx="2057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ms(g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3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Metric System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measurement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yste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based on units or powers of 1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ter measures leng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ram measures ma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iter measures volum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olume: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You drank 70 milliliters of water, how many centiliters did you drink?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467480" y="3581280"/>
            <a:ext cx="60984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324480" y="3124080"/>
            <a:ext cx="60984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 rot="12495000">
            <a:off x="6860520" y="3553920"/>
            <a:ext cx="60948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4191120"/>
            <a:ext cx="8305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Use the metric conversion ladd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100 centimeters (cm) = ____ meters (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1 kilometer (km) = ____ meters (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685800" y="-34920"/>
            <a:ext cx="807732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762120" y="42667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000 milliLiters (mL) = _________ Liters (L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400 centigrams (cg) = __________ grams (g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458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761760" y="4648320"/>
            <a:ext cx="83818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4.6 kilometers (km) = ___________ meters (m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12 centimeters (cm) = ___________ millimeters (mm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-228600" y="0"/>
            <a:ext cx="960120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ummariz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ric system is a measurement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based on units or powers of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er measures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measures ma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measures 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 km = _______met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000 mm = ______met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cm = 1 me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010280" y="2590920"/>
            <a:ext cx="175284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162920" y="2743200"/>
            <a:ext cx="1411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opic: 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learn how to calculate volume by water displace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understand the concept of density gi en mass and volum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 use Volume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en we want to find the capacity of something (how much liquid is insid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Volume is measured is lit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2"/>
          <a:stretch/>
        </p:blipFill>
        <p:spPr>
          <a:xfrm>
            <a:off x="6248520" y="3809880"/>
            <a:ext cx="2614320" cy="297180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3124080" cy="2959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2 ways we find volum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371240" y="1295280"/>
            <a:ext cx="5181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 simple shapes, like cubes and spheres, we can calculate them through basic ma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 example, to find the volume of a cube we measure the (Length x Width x Height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ut, we'll let math class teach you tha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2"/>
          <a:stretch/>
        </p:blipFill>
        <p:spPr>
          <a:xfrm>
            <a:off x="6867360" y="3429000"/>
            <a:ext cx="1789200" cy="205740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3"/>
          <a:stretch/>
        </p:blipFill>
        <p:spPr>
          <a:xfrm>
            <a:off x="6400800" y="5537160"/>
            <a:ext cx="2209680" cy="1320840"/>
          </a:xfrm>
          <a:prstGeom prst="rect">
            <a:avLst/>
          </a:prstGeom>
          <a:ln w="0">
            <a:noFill/>
          </a:ln>
        </p:spPr>
      </p:pic>
      <p:pic>
        <p:nvPicPr>
          <p:cNvPr id="934" name="" descr=""/>
          <p:cNvPicPr/>
          <p:nvPr/>
        </p:nvPicPr>
        <p:blipFill>
          <a:blip r:embed="rId4"/>
          <a:stretch/>
        </p:blipFill>
        <p:spPr>
          <a:xfrm>
            <a:off x="6553080" y="1295280"/>
            <a:ext cx="2210040" cy="209880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 flipH="1">
            <a:off x="7391160" y="304812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010280" y="2133720"/>
            <a:ext cx="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H="1" flipV="1">
            <a:off x="7009920" y="2819160"/>
            <a:ext cx="30492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2 ways we find volum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something has an irregular shape, how do we find the volume of it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other way we find volume is by displace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3924360" cy="421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       </a:t>
            </a: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Meter Stick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 rot="5095200">
            <a:off x="1825200" y="4651200"/>
            <a:ext cx="311040" cy="609480"/>
          </a:xfrm>
          <a:custGeom>
            <a:avLst/>
            <a:gdLst>
              <a:gd name="textAreaLeft" fmla="*/ 0 w 311040"/>
              <a:gd name="textAreaRight" fmla="*/ 112320 w 3110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089"/>
                </a:lnTo>
                <a:cubicBezTo>
                  <a:pt x="10800" y="10989"/>
                  <a:pt x="16200" y="11889"/>
                  <a:pt x="21600" y="11889"/>
                </a:cubicBezTo>
                <a:cubicBezTo>
                  <a:pt x="16200" y="11889"/>
                  <a:pt x="10800" y="12789"/>
                  <a:pt x="10800" y="1368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5257800"/>
            <a:ext cx="28195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37-38 = 1 centi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th 10 millimet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sid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145000">
            <a:off x="5333400" y="2362320"/>
            <a:ext cx="533160" cy="4647960"/>
          </a:xfrm>
          <a:custGeom>
            <a:avLst/>
            <a:gdLst>
              <a:gd name="textAreaLeft" fmla="*/ 0 w 533160"/>
              <a:gd name="textAreaRight" fmla="*/ 192600 w 533160"/>
              <a:gd name="textAreaTop" fmla="*/ 120960 h 4647960"/>
              <a:gd name="textAreaBottom" fmla="*/ 4527000 h 46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5029200"/>
            <a:ext cx="2743200" cy="1371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40-50 = 1 deci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th 10 centimet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sid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422800">
            <a:off x="990720" y="0"/>
            <a:ext cx="533160" cy="2651040"/>
          </a:xfrm>
          <a:custGeom>
            <a:avLst/>
            <a:gdLst>
              <a:gd name="textAreaLeft" fmla="*/ 0 w 533160"/>
              <a:gd name="textAreaRight" fmla="*/ 192600 w 533160"/>
              <a:gd name="textAreaTop" fmla="*/ 69120 h 2651040"/>
              <a:gd name="textAreaBottom" fmla="*/ 2581920 h 265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1523880"/>
            <a:ext cx="266724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ere is one 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tick shrunken dow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 by Displace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t's say we want to find the volume of a roc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ou can't exactly take out a ruler and measure it like you could a cube or triang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3924360" cy="421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 by Displace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ere's how you do it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drop the rock into wa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bviously, the water level will ri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ut, by how much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amount it rises equals the volume of the r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4076640" cy="436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 by Displace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4267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Submerging the object will cause the water level to ris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amount it rises, equals the volume of the rock in Lit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4076640" cy="436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Volume by Displacement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276360" y="15998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hod used to find volume of an ____shaped obj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_the object, will cause the water level to ri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amount it rises, equals the volume of the rock in_____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3294000" cy="352440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3"/>
          <a:stretch/>
        </p:blipFill>
        <p:spPr>
          <a:xfrm>
            <a:off x="1066680" y="12952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6934320" y="2286000"/>
            <a:ext cx="2057400" cy="32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086600" y="243828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(s)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Mas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en we mass something, we measure how much stuff (or matter) the object is made of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We find mass by weighing the ob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is measured in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ra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1752480" cy="1460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Mas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has more mass? You or m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other words, who is made up of more stuff? You or m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has more mass? The earth or m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how tightly matter is compact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s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n object to it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u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density expression,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n object or substance is written in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era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it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u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omina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D    =   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mass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 =  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  or  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=   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g/cm</a:t>
            </a:r>
            <a:r>
              <a:rPr b="1" lang="en-US" sz="2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      volume        mL           cm</a:t>
            </a: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Note:  1 mL = 1 cm</a:t>
            </a:r>
            <a:r>
              <a:rPr b="0" i="1" lang="en-US" sz="24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p:transition spd="slow"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0" dur="2000" fill="hold"/>
                                        <p:tgtEl>
                                          <p:spTgt spid="9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9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how tightly matter is compact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ts imagine we have 2 cubes the same siz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owever, now let us imagine that one cube is made of lead, and the other is made of Foa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y both have the same size but which one is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re dense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2"/>
          <a:stretch/>
        </p:blipFill>
        <p:spPr>
          <a:xfrm>
            <a:off x="2209680" y="4648320"/>
            <a:ext cx="4953240" cy="204156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/>
          <p:nvPr/>
        </p:nvSpPr>
        <p:spPr>
          <a:xfrm>
            <a:off x="0" y="3962520"/>
            <a:ext cx="2133720" cy="761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Lea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3"/>
          <a:stretch/>
        </p:blipFill>
        <p:spPr>
          <a:xfrm rot="2692200">
            <a:off x="1066680" y="4952520"/>
            <a:ext cx="1371600" cy="514440"/>
          </a:xfrm>
          <a:prstGeom prst="rect">
            <a:avLst/>
          </a:prstGeom>
          <a:ln w="0">
            <a:noFill/>
          </a:ln>
        </p:spPr>
      </p:pic>
      <p:sp>
        <p:nvSpPr>
          <p:cNvPr id="968" name=""/>
          <p:cNvSpPr/>
          <p:nvPr/>
        </p:nvSpPr>
        <p:spPr>
          <a:xfrm>
            <a:off x="7010280" y="3962520"/>
            <a:ext cx="2133720" cy="761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Foa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4"/>
          <a:stretch/>
        </p:blipFill>
        <p:spPr>
          <a:xfrm rot="18855000">
            <a:off x="6786360" y="5024160"/>
            <a:ext cx="1447920" cy="54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0" y="3048120"/>
            <a:ext cx="2133720" cy="761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Lea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lead Cube is!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ut why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ell, it all has to do with how much stuff is packed into the same amount of space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2"/>
          <a:stretch/>
        </p:blipFill>
        <p:spPr>
          <a:xfrm>
            <a:off x="2133720" y="4648320"/>
            <a:ext cx="4952880" cy="204156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3"/>
          <a:stretch/>
        </p:blipFill>
        <p:spPr>
          <a:xfrm rot="2692200">
            <a:off x="1066680" y="4114440"/>
            <a:ext cx="1371600" cy="51444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7010280" y="2971800"/>
            <a:ext cx="2133720" cy="762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Foa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4"/>
          <a:stretch/>
        </p:blipFill>
        <p:spPr>
          <a:xfrm rot="18855000">
            <a:off x="6786360" y="4033440"/>
            <a:ext cx="1447920" cy="54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t's look at these fish which are the same siz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n though they are the same size they all have different densit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y all have the same 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ut, each fish has a different mas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4419360" cy="295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What is the Metric System?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measurement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yste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based on units or powers of 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____ measures leng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ram measures 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____ measures volum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2133720"/>
            <a:ext cx="2057400" cy="297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228600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038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ach fish has a different mass, therefore each has a different weigh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reason has to do with how much stuff (matter) is packed into the same amount of space or 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19360" cy="295596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3"/>
          <a:stretch/>
        </p:blipFill>
        <p:spPr>
          <a:xfrm rot="16200000">
            <a:off x="4144680" y="3779640"/>
            <a:ext cx="1905120" cy="74628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3962520" y="5181480"/>
            <a:ext cx="236196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he lead fish has th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ame volume, but, it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ntains more mat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nd therefore weigh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or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781680" y="5257800"/>
            <a:ext cx="236232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he wood fish has th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ame volume, but, it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ntains less mat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nd therefore weigh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es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4"/>
          <a:stretch/>
        </p:blipFill>
        <p:spPr>
          <a:xfrm rot="16200000">
            <a:off x="7269120" y="3855600"/>
            <a:ext cx="1904760" cy="74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how tightly matter is compacte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ompares the ____of an object to its _____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ll that mass is measured in ____ and volume is measured in ______ therefore the units of density are _____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D =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mass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=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fd293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g/cm</a:t>
            </a:r>
            <a:r>
              <a:rPr b="1" lang="en-US" sz="2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volume     mL       cm</a:t>
            </a: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Note:  1 mL = 1 cm</a:t>
            </a:r>
            <a:r>
              <a:rPr b="0" i="1" lang="en-US" sz="24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 Black"/>
              </a:rPr>
              <a:t>What is Density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6934320" y="2057400"/>
            <a:ext cx="2057400" cy="350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7086600" y="243828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/m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6" dur="2000" fill="hold"/>
                                        <p:tgtEl>
                                          <p:spTgt spid="9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0" dur="1000" fill="hold"/>
                                        <p:tgtEl>
                                          <p:spTgt spid="9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ater and 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2"/>
          <a:stretch/>
        </p:blipFill>
        <p:spPr>
          <a:xfrm>
            <a:off x="6629400" y="1219320"/>
            <a:ext cx="2514600" cy="4457520"/>
          </a:xfrm>
          <a:prstGeom prst="rect">
            <a:avLst/>
          </a:prstGeom>
          <a:ln w="0">
            <a:noFill/>
          </a:ln>
        </p:spPr>
      </p:pic>
      <p:sp>
        <p:nvSpPr>
          <p:cNvPr id="994" name=""/>
          <p:cNvSpPr/>
          <p:nvPr/>
        </p:nvSpPr>
        <p:spPr>
          <a:xfrm>
            <a:off x="990720" y="1447920"/>
            <a:ext cx="5715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f you had a cube, and each side was 1 cm, what would it’s volume be?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ngth x Width  x Heigh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w let’s imagine this cube is emp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ow much water would it take to fill it up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876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x 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x 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= 1</a:t>
            </a: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1" lang="en-US" sz="35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endParaRPr b="0" lang="en-US" sz="35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s it turns out, it takes 1 milliliter occupies 1 cubic centimeter or cm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other words, 1mL = 1 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nice, because it makes the density of water is equal to 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7924680" y="3657600"/>
            <a:ext cx="106704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7010280" y="365760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7010280" y="25905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ater and 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662640" cy="410040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29528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447920" y="1828800"/>
            <a:ext cx="37335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ter has a density of 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an object sinks, it has a density greater than 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an object floats, it has a density less than 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What is the Density of Water?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03" name=""/>
          <p:cNvSpPr/>
          <p:nvPr/>
        </p:nvSpPr>
        <p:spPr>
          <a:xfrm>
            <a:off x="129528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838080" y="1752480"/>
            <a:ext cx="5639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ter has a density of___ g/m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an object____, it has a density greater than 1and If an object_____, it has a density less than 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/>
          <p:nvPr/>
        </p:nvSpPr>
        <p:spPr>
          <a:xfrm>
            <a:off x="6934320" y="2286000"/>
            <a:ext cx="2057400" cy="32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086600" y="243828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Practice: 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 object weighs 10 grams.  It has a volume of 5 mL.  What is it’s density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981080" y="3581280"/>
            <a:ext cx="7010640" cy="2438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= 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  mass (g)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=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  10g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= 2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/mL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olume (mL)    5m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ere is the air most dense? The least dense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013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43600" cy="572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2"/>
          <a:stretch/>
        </p:blipFill>
        <p:spPr>
          <a:xfrm>
            <a:off x="-685800" y="0"/>
            <a:ext cx="10058400" cy="685656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2895480" y="914400"/>
            <a:ext cx="5791320" cy="10666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Where is the population the most dense?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The least dense?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 Demo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am going to mix 3 fluids of different densitie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y attention and see if you can determine which fluid is the most dense, and which fluid is the least dense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 Demo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fluid was the most dens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fluid was the least dens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2"/>
          <a:stretch/>
        </p:blipFill>
        <p:spPr>
          <a:xfrm>
            <a:off x="5057640" y="1600200"/>
            <a:ext cx="408636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Fill in the Blank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The _________  __________of measurement is what we use here in the United St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The _________  __________ is what the rest of the world us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1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Scientists use the __________  ________ because it is easy to conve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olume by displacement is when we _____ an object to find it’s volum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s the ____of an object to its _____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nsity = mass divided by 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units of density are in either g/cm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r _____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density of ____ is equal to 1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7772400" cy="42696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6934320" y="2286000"/>
            <a:ext cx="205740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086600" y="228600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/m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opic: Science Basic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understand the difference between an element and a molecu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know how different forms of energy and they are transferr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know the different layers of the ear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lement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Matter, that is everything on earth and beyond is made of substances called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men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is a substance that cannot be broken down into simpler substances by physical or chemical mean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usually combine with other elements to form compound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2"/>
          <a:stretch/>
        </p:blipFill>
        <p:spPr>
          <a:xfrm>
            <a:off x="1905120" y="4114800"/>
            <a:ext cx="54864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lement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034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1143000"/>
            <a:ext cx="3772080" cy="264168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5"/>
          <a:stretch/>
        </p:blipFill>
        <p:spPr>
          <a:xfrm rot="17811000">
            <a:off x="4959360" y="3890520"/>
            <a:ext cx="1816200" cy="31428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6"/>
          <a:stretch/>
        </p:blipFill>
        <p:spPr>
          <a:xfrm>
            <a:off x="1066680" y="1371600"/>
            <a:ext cx="3438720" cy="458136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7"/>
          <a:stretch/>
        </p:blipFill>
        <p:spPr>
          <a:xfrm rot="10331400">
            <a:off x="3736080" y="2961720"/>
            <a:ext cx="2806920" cy="314280"/>
          </a:xfrm>
          <a:prstGeom prst="rect">
            <a:avLst/>
          </a:prstGeom>
          <a:ln w="0">
            <a:noFill/>
          </a:ln>
        </p:spPr>
      </p:pic>
      <p:sp>
        <p:nvSpPr>
          <p:cNvPr id="1039" name=""/>
          <p:cNvSpPr/>
          <p:nvPr/>
        </p:nvSpPr>
        <p:spPr>
          <a:xfrm>
            <a:off x="1066680" y="1371600"/>
            <a:ext cx="13716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iamon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ure Carbon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724280" y="1143000"/>
            <a:ext cx="13716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Gol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u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4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8" dur="500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2" dur="50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ompound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42" name=""/>
          <p:cNvSpPr/>
          <p:nvPr/>
        </p:nvSpPr>
        <p:spPr>
          <a:xfrm>
            <a:off x="838080" y="1371600"/>
            <a:ext cx="5105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en two or more elements bond with each other, we call it a comp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ater is a compound that forms between two elements– Hydrogen and oxyg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lt is a compound that forms between Sodium and Chlor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2"/>
          <a:stretch/>
        </p:blipFill>
        <p:spPr>
          <a:xfrm>
            <a:off x="5943600" y="990720"/>
            <a:ext cx="3048120" cy="2011320"/>
          </a:xfrm>
          <a:prstGeom prst="rect">
            <a:avLst/>
          </a:prstGeom>
          <a:ln w="0">
            <a:noFill/>
          </a:ln>
        </p:spPr>
      </p:pic>
      <p:pic>
        <p:nvPicPr>
          <p:cNvPr id="1044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5" dur="500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ompound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3"/>
          <a:stretch/>
        </p:blipFill>
        <p:spPr>
          <a:xfrm>
            <a:off x="1523880" y="1295280"/>
            <a:ext cx="4419720" cy="291636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4"/>
          <a:stretch/>
        </p:blipFill>
        <p:spPr>
          <a:xfrm>
            <a:off x="609480" y="2286000"/>
            <a:ext cx="1219320" cy="30960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5"/>
          <a:stretch/>
        </p:blipFill>
        <p:spPr>
          <a:xfrm rot="11478600">
            <a:off x="5476680" y="2594880"/>
            <a:ext cx="2057400" cy="299880"/>
          </a:xfrm>
          <a:prstGeom prst="rect">
            <a:avLst/>
          </a:prstGeom>
          <a:ln w="0">
            <a:noFill/>
          </a:ln>
        </p:spPr>
      </p:pic>
      <p:pic>
        <p:nvPicPr>
          <p:cNvPr id="1050" name="" descr=""/>
          <p:cNvPicPr/>
          <p:nvPr/>
        </p:nvPicPr>
        <p:blipFill>
          <a:blip r:embed="rId6"/>
          <a:stretch/>
        </p:blipFill>
        <p:spPr>
          <a:xfrm>
            <a:off x="2514600" y="205740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051" name="" descr=""/>
          <p:cNvPicPr/>
          <p:nvPr/>
        </p:nvPicPr>
        <p:blipFill>
          <a:blip r:embed="rId7"/>
          <a:stretch/>
        </p:blipFill>
        <p:spPr>
          <a:xfrm>
            <a:off x="609480" y="3352680"/>
            <a:ext cx="2210040" cy="309600"/>
          </a:xfrm>
          <a:prstGeom prst="rect">
            <a:avLst/>
          </a:prstGeom>
          <a:ln w="0">
            <a:noFill/>
          </a:ln>
        </p:spPr>
      </p:pic>
      <p:pic>
        <p:nvPicPr>
          <p:cNvPr id="1052" name="" descr=""/>
          <p:cNvPicPr/>
          <p:nvPr/>
        </p:nvPicPr>
        <p:blipFill>
          <a:blip r:embed="rId8"/>
          <a:stretch/>
        </p:blipFill>
        <p:spPr>
          <a:xfrm rot="10800000">
            <a:off x="5181480" y="3352680"/>
            <a:ext cx="2743200" cy="300240"/>
          </a:xfrm>
          <a:prstGeom prst="rect">
            <a:avLst/>
          </a:prstGeom>
          <a:ln w="0">
            <a:noFill/>
          </a:ln>
        </p:spPr>
      </p:pic>
      <p:sp>
        <p:nvSpPr>
          <p:cNvPr id="1053" name=""/>
          <p:cNvSpPr/>
          <p:nvPr/>
        </p:nvSpPr>
        <p:spPr>
          <a:xfrm>
            <a:off x="1523880" y="1295280"/>
            <a:ext cx="129564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590920" y="4267080"/>
            <a:ext cx="129528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aC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1" dur="50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5" dur="50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9" dur="500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3" dur="50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7" dur="500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1" dur="500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5" dur="500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9" dur="500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at is the difference between an Element and a Compound?</a:t>
            </a:r>
            <a:endParaRPr b="0" lang="en-US" sz="32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6782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ements are the ____substances that cannot be broken dow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en two or more elements bond with each other, we call it a_____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3733920"/>
            <a:ext cx="3504960" cy="240192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228600" y="5791320"/>
            <a:ext cx="350532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e2a00"/>
                </a:solidFill>
                <a:latin typeface="Arial"/>
              </a:rPr>
              <a:t>Elemen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676440" cy="61452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5"/>
          <a:stretch/>
        </p:blipFill>
        <p:spPr>
          <a:xfrm>
            <a:off x="1143000" y="1143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1061" name="" descr=""/>
          <p:cNvPicPr/>
          <p:nvPr/>
        </p:nvPicPr>
        <p:blipFill>
          <a:blip r:embed="rId6"/>
          <a:stretch/>
        </p:blipFill>
        <p:spPr>
          <a:xfrm>
            <a:off x="3962520" y="3581280"/>
            <a:ext cx="3581280" cy="291636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3962520" y="5791320"/>
            <a:ext cx="358128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e2a00"/>
                </a:solidFill>
                <a:latin typeface="Arial"/>
              </a:rPr>
              <a:t>Compound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620120" y="2209680"/>
            <a:ext cx="144756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77240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He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Hea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the energy that moves from an object with a higher temperature to an object with a lower temperat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en an object has no heat, this object is 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cold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What is Heat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energy that ___ from an object with a higher temperature to an object with a lower temperat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2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1044720"/>
          </a:xfrm>
          <a:prstGeom prst="rect">
            <a:avLst/>
          </a:prstGeom>
          <a:ln w="0">
            <a:noFill/>
          </a:ln>
        </p:spPr>
      </p:pic>
      <p:sp>
        <p:nvSpPr>
          <p:cNvPr id="1071" name=""/>
          <p:cNvSpPr/>
          <p:nvPr/>
        </p:nvSpPr>
        <p:spPr>
          <a:xfrm>
            <a:off x="7010280" y="2819520"/>
            <a:ext cx="1447920" cy="259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162920" y="2819520"/>
            <a:ext cx="11509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769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onvection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4267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nvection is the transfer of heat by the flow of a heated mater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nly occurs with gases and liqui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762120" y="38095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en gases and liquids are warmed, their molecules move apart, increasing its volume and decreasing its density, causing it to ris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ntually, gas or liquid will start to cool, causing it to fall back down and the cycle repeats itself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6" name="" descr="An animation depicting convection current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Each unit is 10 times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maller or 10 times Larger!!!!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676520"/>
            <a:ext cx="8458200" cy="5331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meter is the basic unit of length in the metric sys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Conduction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3886200" y="11426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surface of the earth absorbs radiation, causing the molecules to rub into one another – Condu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nduction is the transfer of energy that occurs when molecules bump into one anot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3962520" cy="350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3581280" y="1219320"/>
            <a:ext cx="586764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onduction and Heat Transf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082" name="" descr=""/>
          <p:cNvPicPr/>
          <p:nvPr/>
        </p:nvPicPr>
        <p:blipFill>
          <a:blip r:embed="rId2"/>
          <a:stretch/>
        </p:blipFill>
        <p:spPr>
          <a:xfrm rot="1048200">
            <a:off x="4647960" y="1752480"/>
            <a:ext cx="3886200" cy="372744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/>
          <p:nvPr/>
        </p:nvSpPr>
        <p:spPr>
          <a:xfrm>
            <a:off x="4724280" y="3429000"/>
            <a:ext cx="2438640" cy="558720"/>
          </a:xfrm>
          <a:custGeom>
            <a:avLst/>
            <a:gdLst/>
            <a:ahLst/>
            <a:rect l="l" t="t" r="r" b="b"/>
            <a:pathLst>
              <a:path w="1448" h="352">
                <a:moveTo>
                  <a:pt x="1448" y="96"/>
                </a:moveTo>
                <a:cubicBezTo>
                  <a:pt x="732" y="224"/>
                  <a:pt x="16" y="352"/>
                  <a:pt x="8" y="336"/>
                </a:cubicBezTo>
                <a:cubicBezTo>
                  <a:pt x="0" y="320"/>
                  <a:pt x="1168" y="56"/>
                  <a:pt x="1400" y="0"/>
                </a:cubicBezTo>
              </a:path>
            </a:pathLst>
          </a:custGeom>
          <a:solidFill>
            <a:srgbClr val="ff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84" name="" descr=""/>
          <p:cNvPicPr/>
          <p:nvPr/>
        </p:nvPicPr>
        <p:blipFill>
          <a:blip r:embed="rId3"/>
          <a:stretch/>
        </p:blipFill>
        <p:spPr>
          <a:xfrm>
            <a:off x="3581280" y="358128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1085" name=""/>
          <p:cNvSpPr/>
          <p:nvPr/>
        </p:nvSpPr>
        <p:spPr>
          <a:xfrm rot="21021600">
            <a:off x="3962520" y="2590560"/>
            <a:ext cx="2438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 Flow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4724280" y="3047760"/>
            <a:ext cx="221004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85800" y="1371600"/>
            <a:ext cx="29718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nduction is the transfer of heat that occurs when molecules bump into one anot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Black"/>
              </a:rPr>
              <a:t>What’s the difference between Convection and Conduction?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429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nduction is the transfer of energy that occurs when molecules ___ into one anoth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ction is the transfer of heat by the ____ of a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ed mater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0" name="" descr=""/>
          <p:cNvPicPr/>
          <p:nvPr/>
        </p:nvPicPr>
        <p:blipFill>
          <a:blip r:embed="rId2"/>
          <a:stretch/>
        </p:blipFill>
        <p:spPr>
          <a:xfrm>
            <a:off x="4038480" y="1600200"/>
            <a:ext cx="3048120" cy="269388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3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109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71600" cy="1044720"/>
          </a:xfrm>
          <a:prstGeom prst="rect">
            <a:avLst/>
          </a:prstGeom>
          <a:ln w="0">
            <a:noFill/>
          </a:ln>
        </p:spPr>
      </p:pic>
      <p:pic>
        <p:nvPicPr>
          <p:cNvPr id="1093" name="" descr="An animation depicting convection current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9880" y="4172040"/>
            <a:ext cx="3581640" cy="2685960"/>
          </a:xfrm>
          <a:prstGeom prst="rect">
            <a:avLst/>
          </a:prstGeom>
          <a:ln w="0">
            <a:noFill/>
          </a:ln>
        </p:spPr>
      </p:pic>
      <p:sp>
        <p:nvSpPr>
          <p:cNvPr id="1094" name=""/>
          <p:cNvSpPr/>
          <p:nvPr/>
        </p:nvSpPr>
        <p:spPr>
          <a:xfrm>
            <a:off x="7620120" y="2209680"/>
            <a:ext cx="144756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77240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Radiati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171840" y="17521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other way energy is transferred is by radi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nergy transfer through space by electromagnetic waves in the form of visible light, Ultraviolet, X-rays, and gamma wav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2"/>
          <a:stretch/>
        </p:blipFill>
        <p:spPr>
          <a:xfrm>
            <a:off x="4343400" y="2286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1099" name="" descr=""/>
          <p:cNvPicPr/>
          <p:nvPr/>
        </p:nvPicPr>
        <p:blipFill>
          <a:blip r:embed="rId3"/>
          <a:stretch/>
        </p:blipFill>
        <p:spPr>
          <a:xfrm>
            <a:off x="6019920" y="228600"/>
            <a:ext cx="163836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0" name="ShockwaveFlash1"/>
          <p:cNvGraphicFramePr/>
          <p:nvPr/>
        </p:nvGraphicFramePr>
        <p:xfrm>
          <a:off x="533520" y="1219320"/>
          <a:ext cx="5333760" cy="548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1" name="ShockwaveFlash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1219320"/>
                    <a:ext cx="5333760" cy="5486400"/>
                  </a:xfrm>
                  <a:prstGeom prst="rect">
                    <a:avLst/>
                  </a:prstGeom>
                  <a:ln w="936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Radiation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ergy transfer through space by in the form of wave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: visible light, Ultraviolet, X-rays, and gamma wav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105" name=""/>
          <p:cNvSpPr/>
          <p:nvPr/>
        </p:nvSpPr>
        <p:spPr>
          <a:xfrm>
            <a:off x="7391520" y="2209680"/>
            <a:ext cx="144756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754380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-228600" y="-152280"/>
            <a:ext cx="1676520" cy="701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2"/>
          <a:stretch/>
        </p:blipFill>
        <p:spPr>
          <a:xfrm>
            <a:off x="1447920" y="0"/>
            <a:ext cx="7696080" cy="6869160"/>
          </a:xfrm>
          <a:prstGeom prst="rect">
            <a:avLst/>
          </a:prstGeom>
          <a:ln w="0">
            <a:noFill/>
          </a:ln>
        </p:spPr>
      </p:pic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Earth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10" name=""/>
          <p:cNvSpPr/>
          <p:nvPr/>
        </p:nvSpPr>
        <p:spPr>
          <a:xfrm>
            <a:off x="3200400" y="2590920"/>
            <a:ext cx="1371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qui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on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905120" y="1981080"/>
            <a:ext cx="1447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olten rock)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219320" y="1143000"/>
            <a:ext cx="1447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hin rocky outer layer)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1066320" y="4419720"/>
            <a:ext cx="38124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828800" y="152280"/>
            <a:ext cx="3479760" cy="6451560"/>
          </a:xfrm>
          <a:custGeom>
            <a:avLst/>
            <a:gdLst/>
            <a:ahLst/>
            <a:rect l="l" t="t" r="r" b="b"/>
            <a:pathLst>
              <a:path w="2192" h="4064">
                <a:moveTo>
                  <a:pt x="2128" y="4040"/>
                </a:moveTo>
                <a:cubicBezTo>
                  <a:pt x="2048" y="4052"/>
                  <a:pt x="1968" y="4064"/>
                  <a:pt x="1840" y="4040"/>
                </a:cubicBezTo>
                <a:cubicBezTo>
                  <a:pt x="1712" y="4016"/>
                  <a:pt x="1496" y="3944"/>
                  <a:pt x="1360" y="3896"/>
                </a:cubicBezTo>
                <a:cubicBezTo>
                  <a:pt x="1224" y="3848"/>
                  <a:pt x="1136" y="3816"/>
                  <a:pt x="1024" y="3752"/>
                </a:cubicBezTo>
                <a:cubicBezTo>
                  <a:pt x="912" y="3688"/>
                  <a:pt x="784" y="3592"/>
                  <a:pt x="688" y="3512"/>
                </a:cubicBezTo>
                <a:cubicBezTo>
                  <a:pt x="592" y="3432"/>
                  <a:pt x="520" y="3360"/>
                  <a:pt x="448" y="3272"/>
                </a:cubicBezTo>
                <a:cubicBezTo>
                  <a:pt x="376" y="3184"/>
                  <a:pt x="312" y="3080"/>
                  <a:pt x="256" y="2984"/>
                </a:cubicBezTo>
                <a:cubicBezTo>
                  <a:pt x="200" y="2888"/>
                  <a:pt x="152" y="2816"/>
                  <a:pt x="112" y="2696"/>
                </a:cubicBezTo>
                <a:cubicBezTo>
                  <a:pt x="72" y="2576"/>
                  <a:pt x="32" y="2408"/>
                  <a:pt x="16" y="2264"/>
                </a:cubicBezTo>
                <a:cubicBezTo>
                  <a:pt x="0" y="2120"/>
                  <a:pt x="0" y="1984"/>
                  <a:pt x="16" y="1832"/>
                </a:cubicBezTo>
                <a:cubicBezTo>
                  <a:pt x="32" y="1680"/>
                  <a:pt x="64" y="1488"/>
                  <a:pt x="112" y="1352"/>
                </a:cubicBezTo>
                <a:cubicBezTo>
                  <a:pt x="160" y="1216"/>
                  <a:pt x="232" y="1128"/>
                  <a:pt x="304" y="1016"/>
                </a:cubicBezTo>
                <a:cubicBezTo>
                  <a:pt x="376" y="904"/>
                  <a:pt x="448" y="784"/>
                  <a:pt x="544" y="680"/>
                </a:cubicBezTo>
                <a:cubicBezTo>
                  <a:pt x="640" y="576"/>
                  <a:pt x="768" y="472"/>
                  <a:pt x="880" y="392"/>
                </a:cubicBezTo>
                <a:cubicBezTo>
                  <a:pt x="992" y="312"/>
                  <a:pt x="1096" y="248"/>
                  <a:pt x="1216" y="200"/>
                </a:cubicBezTo>
                <a:cubicBezTo>
                  <a:pt x="1336" y="152"/>
                  <a:pt x="1504" y="128"/>
                  <a:pt x="1600" y="104"/>
                </a:cubicBezTo>
                <a:cubicBezTo>
                  <a:pt x="1696" y="80"/>
                  <a:pt x="1704" y="72"/>
                  <a:pt x="1792" y="56"/>
                </a:cubicBezTo>
                <a:cubicBezTo>
                  <a:pt x="1880" y="40"/>
                  <a:pt x="2064" y="16"/>
                  <a:pt x="2128" y="8"/>
                </a:cubicBezTo>
                <a:cubicBezTo>
                  <a:pt x="2192" y="0"/>
                  <a:pt x="2168" y="8"/>
                  <a:pt x="2176" y="8"/>
                </a:cubicBezTo>
              </a:path>
            </a:pathLst>
          </a:custGeom>
          <a:noFill/>
          <a:ln w="117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52280" y="57913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hosphe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nse layer made up of the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ust and upper mantle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rot="18974400">
            <a:off x="2371320" y="5208120"/>
            <a:ext cx="3808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2209680" y="56386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495680" y="2971800"/>
            <a:ext cx="99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i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2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2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2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2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60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2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2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3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2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2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What are the layers of the earth?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Inner cor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lid ir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Outer cor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–____ ir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Mantl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- molten r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Crus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– thin rocky outer lay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Lithospher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nse part made up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f the ____ and outer mant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543800" y="2209680"/>
            <a:ext cx="144792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69608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ummariz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6172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simplest substances on earth are called 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ments combine with other elements to form 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__ is the transfer of heat by the flow of a mater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raw and labe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5" name="" descr=""/>
          <p:cNvPicPr/>
          <p:nvPr/>
        </p:nvPicPr>
        <p:blipFill>
          <a:blip r:embed="rId2"/>
          <a:stretch/>
        </p:blipFill>
        <p:spPr>
          <a:xfrm>
            <a:off x="1371600" y="838080"/>
            <a:ext cx="7772400" cy="42732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/>
          <p:cNvPicPr/>
          <p:nvPr/>
        </p:nvPicPr>
        <p:blipFill>
          <a:blip r:embed="rId3"/>
          <a:stretch/>
        </p:blipFill>
        <p:spPr>
          <a:xfrm>
            <a:off x="4800600" y="3657600"/>
            <a:ext cx="4343400" cy="308124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7543800" y="1295280"/>
            <a:ext cx="1447920" cy="221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7696080" y="1295280"/>
            <a:ext cx="115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752480"/>
            <a:ext cx="845820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438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3695760" y="-647640"/>
            <a:ext cx="990360" cy="8381880"/>
          </a:xfrm>
          <a:custGeom>
            <a:avLst/>
            <a:gdLst>
              <a:gd name="textAreaLeft" fmla="*/ 632880 w 990360"/>
              <a:gd name="textAreaRight" fmla="*/ 990720 w 990360"/>
              <a:gd name="textAreaTop" fmla="*/ 218520 h 8381880"/>
              <a:gd name="textAreaBottom" fmla="*/ 8163360 h 838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4267080"/>
            <a:ext cx="4495680" cy="1905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0 decimeters fit into o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 me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30492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Each unit is 10 times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maller or 10 times Larger!!!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 centimeters make up one decime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676520"/>
            <a:ext cx="8458200" cy="5331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438280"/>
            <a:ext cx="8384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2438280"/>
            <a:ext cx="8380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352680"/>
            <a:ext cx="7596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352680"/>
            <a:ext cx="76320" cy="5335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419720"/>
            <a:ext cx="7162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Each unit is 10 times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Smaller or 10 times Larger!!!!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4:05:52Z</dcterms:created>
  <dc:creator>MGJ</dc:creator>
  <dc:description/>
  <dc:language>en-US</dc:language>
  <cp:lastModifiedBy>jfuller</cp:lastModifiedBy>
  <dcterms:modified xsi:type="dcterms:W3CDTF">2011-01-06T16:59:32Z</dcterms:modified>
  <cp:revision>89</cp:revision>
  <dc:subject/>
  <dc:title>The Metric System</dc:title>
</cp:coreProperties>
</file>